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A7A83-67E6-4BF9-8D3E-C3EDA04C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BB57F-2324-46E5-AB13-AA86A74D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E2B3C-9AFC-409F-B6B9-37B69011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B66E8-B568-4589-854F-38F7865E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2154-DD2A-4D72-8F92-1C67DEE1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31FB-BE8F-4AF6-BC8E-098E2EF1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AFE7-30A3-4EFC-BBB7-B4007A1B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641B-CDD8-4999-84D6-C0B41A06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E8EE-4A79-42F5-9A30-642D7F9F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8581-4703-4113-B50B-B60CFC72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2607-5E65-48C3-BCEA-874CE121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DC746-BE6F-4625-ABC1-5076792E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5C9F-9551-42C5-8CBE-FD4BAE20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2008-5076-42D0-9832-21D49C3B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6584-6753-4ECC-8A4F-E126957D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55E2-911D-4449-B49E-E27C34DA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AEA2-7FBF-4DE2-AB74-A2726813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68E3B-0EEF-4743-A7E0-FB4A3875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33089-B0A3-44D2-AA2F-28E7EF11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35A04-FE30-477A-9679-774D4684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C7BAA-AB10-4D97-B22E-072A8C22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04E06-FDA5-4848-821E-443C5F9C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90947-580C-4F8D-A867-334CBB60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E99D1-8120-449D-ACA2-A414CD19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8B29-0A20-45B9-919F-83A56E64A8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E1E7-E149-41C7-9C4B-3C12179CCC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EE4A-41CA-4F09-BA9E-62F12B3715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4548-DF2B-4854-9F85-40C8ECFB99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eader Election</a:t>
            </a:r>
            <a:br>
              <a:rPr sz="50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. 3, 4.1, 15.1, 15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ien-Liang Fo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AAAE-6F19-422E-83DB-896B08D6AED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8B1AF40-2838-4391-9266-A604E5905E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R Complexity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Complex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838080" y="3048120"/>
          <a:ext cx="7238880" cy="1849320"/>
        </p:xfrm>
        <a:graphic>
          <a:graphicData uri="http://schemas.openxmlformats.org/drawingml/2006/table">
            <a:tbl>
              <a:tblPr/>
              <a:tblGrid>
                <a:gridCol w="2276280"/>
                <a:gridCol w="1658880"/>
                <a:gridCol w="330372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Hal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A7E01-853B-4CDF-AE51-858CE9B967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400A56-4EF5-4074-87CE-F7CE1C5E22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Hirshberg and Sincl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communication complexity, O(n) tim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irectional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15000" y="38736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05720" y="44830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24840" y="55497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05520" y="55497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00600" y="448308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72200" y="4102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529040" y="494028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462360" y="5778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5929200" y="493992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081840" y="4177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312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45680" y="450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42240" y="555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239240" y="555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7960" y="4502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DEF10-91B1-475A-BC48-12AEB04D77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58338D-D525-437F-93C0-C5CA126E18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S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in phases 0, 1, 2,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pha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end UID in both directions for a distance of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of received UID same as L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s UID comes back, continue to next 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receives its outbound UID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00800" y="74916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91520" y="1359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10640" y="24256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91320" y="24256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86400" y="13590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58000" y="97776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214840" y="18162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148160" y="265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6615000" y="18158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767640" y="10537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17000" y="76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31480" y="1380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28040" y="243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25040" y="243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13760" y="137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772400" y="838080"/>
            <a:ext cx="838080" cy="45720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528" y="288"/>
                </a:moveTo>
                <a:cubicBezTo>
                  <a:pt x="476" y="192"/>
                  <a:pt x="424" y="96"/>
                  <a:pt x="336" y="48"/>
                </a:cubicBezTo>
                <a:cubicBezTo>
                  <a:pt x="248" y="0"/>
                  <a:pt x="124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81880" y="1676520"/>
            <a:ext cx="355680" cy="914400"/>
          </a:xfrm>
          <a:custGeom>
            <a:avLst/>
            <a:gdLst/>
            <a:ahLst/>
            <a:rect l="l" t="t" r="r" b="b"/>
            <a:pathLst>
              <a:path w="224" h="576">
                <a:moveTo>
                  <a:pt x="192" y="0"/>
                </a:moveTo>
                <a:cubicBezTo>
                  <a:pt x="208" y="144"/>
                  <a:pt x="224" y="288"/>
                  <a:pt x="192" y="384"/>
                </a:cubicBezTo>
                <a:cubicBezTo>
                  <a:pt x="160" y="480"/>
                  <a:pt x="80" y="528"/>
                  <a:pt x="0" y="57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431640"/>
            <a:ext cx="2286000" cy="1016280"/>
          </a:xfrm>
          <a:custGeom>
            <a:avLst/>
            <a:gdLst/>
            <a:ahLst/>
            <a:rect l="l" t="t" r="r" b="b"/>
            <a:pathLst>
              <a:path w="1440" h="640">
                <a:moveTo>
                  <a:pt x="1440" y="640"/>
                </a:moveTo>
                <a:cubicBezTo>
                  <a:pt x="1424" y="448"/>
                  <a:pt x="1408" y="256"/>
                  <a:pt x="1248" y="160"/>
                </a:cubicBezTo>
                <a:cubicBezTo>
                  <a:pt x="1088" y="64"/>
                  <a:pt x="688" y="0"/>
                  <a:pt x="480" y="64"/>
                </a:cubicBezTo>
                <a:cubicBezTo>
                  <a:pt x="272" y="128"/>
                  <a:pt x="136" y="336"/>
                  <a:pt x="0" y="5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10280" y="1600200"/>
            <a:ext cx="1981440" cy="1574640"/>
          </a:xfrm>
          <a:custGeom>
            <a:avLst/>
            <a:gdLst/>
            <a:ahLst/>
            <a:rect l="l" t="t" r="r" b="b"/>
            <a:pathLst>
              <a:path w="1248" h="992">
                <a:moveTo>
                  <a:pt x="1104" y="0"/>
                </a:moveTo>
                <a:cubicBezTo>
                  <a:pt x="1176" y="232"/>
                  <a:pt x="1248" y="464"/>
                  <a:pt x="1152" y="624"/>
                </a:cubicBezTo>
                <a:cubicBezTo>
                  <a:pt x="1056" y="784"/>
                  <a:pt x="720" y="928"/>
                  <a:pt x="528" y="960"/>
                </a:cubicBezTo>
                <a:cubicBezTo>
                  <a:pt x="336" y="992"/>
                  <a:pt x="168" y="904"/>
                  <a:pt x="0" y="81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1828800"/>
            <a:ext cx="266760" cy="685800"/>
          </a:xfrm>
          <a:custGeom>
            <a:avLst/>
            <a:gdLst/>
            <a:ahLst/>
            <a:rect l="l" t="t" r="r" b="b"/>
            <a:pathLst>
              <a:path w="168" h="432">
                <a:moveTo>
                  <a:pt x="0" y="432"/>
                </a:moveTo>
                <a:cubicBezTo>
                  <a:pt x="60" y="372"/>
                  <a:pt x="120" y="312"/>
                  <a:pt x="144" y="240"/>
                </a:cubicBezTo>
                <a:cubicBezTo>
                  <a:pt x="168" y="168"/>
                  <a:pt x="156" y="84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914400"/>
            <a:ext cx="533160" cy="38088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0" y="0"/>
                </a:moveTo>
                <a:cubicBezTo>
                  <a:pt x="92" y="28"/>
                  <a:pt x="184" y="56"/>
                  <a:pt x="240" y="96"/>
                </a:cubicBezTo>
                <a:cubicBezTo>
                  <a:pt x="296" y="136"/>
                  <a:pt x="316" y="188"/>
                  <a:pt x="336" y="24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76D42-0D02-4F08-B368-B7F95FAB5D9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6E9F9C-41DF-41BC-8648-091F61C1B6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-base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CS and HS are comparison-based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compare U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unication lower-bound i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Lynch section 3.6 for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the lower bound in gene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15176-8721-4F0B-B49F-20C33719338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778B41-8D6A-4B96-BCAD-21BDFB251F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Slic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mparison-based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communication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known to al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directional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6070B-97A3-46E8-AFC2-43AA747FC1A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02E22E-73F1-4BFE-93F8-47B7166D3A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Slice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phases 1, 2, 3,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unds, round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, …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node with UI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ists, it is circulated around the 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reach round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 and the node with UID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not received any UID before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with minimum UID becomes the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29400" y="120636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520120" y="18162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9240" y="28828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19920" y="28828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15000" y="18162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86600" y="143496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8443440" y="22734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376760" y="311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6843600" y="22730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996240" y="15109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4560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560080" y="183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56640" y="288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53640" y="288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42360" y="183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A0430-0E82-4B16-A0AC-4BB43102C2F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954480-8EDF-4E43-8760-8D6BFCD5C5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Slice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found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essages are sent except between round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) ·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1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ssages are 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complexity is n ·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bound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74739-5A95-413E-B335-AD87EC7640E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45611D-D647-43BB-8DB5-65F3EA0378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peed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non-comparison-base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require knowledg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directional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ends its UID around th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ID travels one hop ever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U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keeps track of lowest UID seen and discards anything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ken returns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C33F1-618A-4DD0-B8DF-645F44E8F6B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326232-82EC-416D-81DE-590DE294E3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Speeds Algorithm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:  2 ·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: O(n ·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rageous unbounded time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lgorithm serves as a counterexample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ac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s that impossibility result cannot be 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E7EC0-BB00-432C-BC39-6E8D1E21FD7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0BF4B9-F6BD-4DF2-BB84-BD50F0635E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Comparison-based algorith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chieve message costs of less than 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but at the cost of unbounded tim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bounded time complexity, the message lower bound for non-comparison-based algorithms is 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Lynch section 3.7 for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22B04-C23D-43CA-BD31-B38DB927DF6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BC49FD-5BF3-462D-A1DE-75B9D2C9A5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er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processes are connected in a di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rocess eventually declares itself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ken ring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communication (e.g., lighthouse rou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16002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281952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286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16765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124080" y="18288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114440" y="205740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267080" y="30481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2666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98108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4120" y="2133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91120" y="205740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3124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0481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3352680" y="3429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562720" y="1523520"/>
            <a:ext cx="914400" cy="228600"/>
          </a:xfrm>
          <a:prstGeom prst="line">
            <a:avLst/>
          </a:prstGeom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63800" y="1332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40480" y="20178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409720" y="2209680"/>
            <a:ext cx="1143000" cy="15264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346AB-4C89-4A50-A274-CFA3EF8F80A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CA5F8E-D28B-4879-A5AF-70C9D367FD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2: General Synch.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sses each with 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connected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16002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81480" y="281952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2286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16765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048120" y="18288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267080" y="30481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00400" y="2666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276720" y="198108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191120" y="205740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95480" y="3124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0481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3352680" y="3429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4495320" y="1980720"/>
            <a:ext cx="762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4976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5152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56640" y="167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16760" y="2803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37320" y="33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32560" y="311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5144B-1EC9-402A-82D2-D8CABA41866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0760BE-0AC1-427A-852D-BEFB7E67FB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 on the 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leaders may have to declare themselves as s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or may no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or may no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1E8D8-B90B-4005-8B44-7F8F50F6A39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859787-8C47-4107-B2C4-9FF7740A18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Max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cess remembers the largest UID it has s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round, propagate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ll outgoing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unds, if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wn UID, declare self as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E0222-3F68-4DD7-806C-08349EF495F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2DD8F0-C5A8-45F4-8712-CE11EF04B4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Max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 a generalization of L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complexity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· |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is the number of outgoing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works if only the upper-bound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09FD-0EB1-422A-8E83-5A1ADED564E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4C699A-8FAB-4E00-8440-3410068AD4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oodMax Algorithm Proof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that aft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unds, U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reached all nodes within diamet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node with the maximum 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that w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ll nodes will have received U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13600" y="41911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80280" y="54100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17960" y="487692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85000" y="5943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03960" y="4267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146560" y="4419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365880" y="56383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99200" y="52578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375160" y="457200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708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289560" y="4648320"/>
            <a:ext cx="1526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088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94280" y="5715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14656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451480" y="60195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6594120" y="45720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48560" y="487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50320" y="419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255080" y="4262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315560" y="539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36120" y="5965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31000" y="5710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65DD5-C453-4D52-9B6A-390CD7271A2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091599-53AF-424A-A5BC-5EDFDBB357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FloodMax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ivial optimization of Flood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broadcast the U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it changed in the current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ness is obvious, but the proof is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AEE8E-4D68-4416-8E35-E12A2F90AC2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AEA89F-5152-4A93-B536-71AA11D518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FloodMax Algorithm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of meth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ly relate OptFloodMax to Flood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n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-inf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lag to each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broadcast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-inf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pr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,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t-nbr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-inf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32AFC-CC0C-4FFA-BB73-98FBA5BCBF1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87B57E-630B-4A72-A1B8-9D01DB1130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FloodMax Proof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lete the proof, relate the states of OptFloodMax to Flood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both are started simultaneously, after rou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states of the two algorithms are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Lynch 4.1 for proof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52FEC-33FC-421B-BE7D-2AACAFEB685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AE66A5-A3C5-4F1A-9FB7-A378396BA0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es connected via reliable FIFO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cess distinguished by 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do not operate in lock-step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/O Automata to model processes and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i="1" lang="en-U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de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9C8CD-97B9-465D-84B1-E5F191DB117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5ADCAB-05B2-42F9-ACE8-50E8A3248A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3: Asynchronous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sses arranged in a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bidirectional 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direc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or may no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wise neighbor can be distinguished from counterclockwise neigh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453440" y="18921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443800" y="25020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62920" y="35686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43600" y="356868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39040" y="2502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910640" y="212076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8367480" y="29592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7300440" y="3797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6767280" y="295884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919920" y="21967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46964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483760" y="2523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806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0776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566400" y="252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1A7CB-50A3-481B-9142-3622BFD6396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EBE538-F2FB-41AF-A276-8CCAAF7419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ssibility Result for Identical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solve leader election problem with identical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the sequence of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rocess will declare self as leader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Assume identical processes distinguished by a unique identifier (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D is a positive 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7BB18-01A6-4329-A814-CF45520BAE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407046-4091-4C5D-9244-7A2ECFB504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LC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s synchronous LCR algorithm excep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buffer of each process must be able to hold up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algorithm is intuitively correct, but the proof is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know where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relate location of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3BDBB-0368-47C4-B045-A365B2E6B03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473801-85BC-4763-BD7C-75943B16C7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LCR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at for 0 ≤ r ≤ n-1, eventually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rs in the buffer sen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34000">
                <a:solidFill>
                  <a:srgbClr val="000000"/>
                </a:solidFill>
                <a:latin typeface="Arial"/>
              </a:rPr>
              <a:t>max+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at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eventually appear on channel connecting to the inpu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B7EBF-BFD7-47C5-AEF2-EFEF83E2B7A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F84238-A981-4DDC-9E59-E1C15F98F8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H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nchronous HS algorithm can also be trivially modified to work in asynchronous 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make sure all channels can handle message pile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7D7F8-0BF0-4206-8729-4BDB91816C4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926C47-790F-4FDA-B158-241C980727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directional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es on asynchronously determined ph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s an arbitrary process as the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8AAEA-6E33-4134-8637-BDEB39B0A0A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4FC045-FCEC-4313-9BB3-256AD23B2D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an b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irst phase, all nodes send their UID two hops clock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ID of immediate counter-clockwise neighbor is highest of the three, adopt it as its new UID and remain 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enter relay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ollowing phases, active node sends their new UID to their two clock-wise active neighbors and 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active node sees that its immediate counterclockwise active neighbor has the same UID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EC99E-85A9-46B6-A977-D665ACFF99F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A81ED9-15ED-4787-9CB3-7EACBF0A52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2096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81080" y="320040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1168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981080" y="23623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1168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320040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02096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0004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16216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40004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17144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7672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0696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267080" y="320040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23623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76720" y="3200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8604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4816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368604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45744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43040" y="2895480"/>
            <a:ext cx="5335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638680" y="23623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29400" y="3200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629400" y="2362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38680" y="320040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4836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104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604836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81976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753080" y="2971800"/>
            <a:ext cx="5331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1523880"/>
            <a:ext cx="1447920" cy="762120"/>
          </a:xfrm>
          <a:prstGeom prst="cloudCallout">
            <a:avLst>
              <a:gd name="adj1" fmla="val -51754"/>
              <a:gd name="adj2" fmla="val 837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61920" y="4267080"/>
            <a:ext cx="38124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9252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52640" y="51055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8324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52640" y="4267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8324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61920" y="51055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9252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716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337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3716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1430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14600" y="4800600"/>
            <a:ext cx="5335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71960" y="4267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20220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162320" y="51055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9292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62320" y="42670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17196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3434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58128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3526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05320" y="4267080"/>
            <a:ext cx="38124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3592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29604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296040" y="42670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305320" y="51055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57150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4864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210440" y="4267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20116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201160" y="42670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1044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620120" y="4419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3818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7619760" y="5257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73915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315200" y="3276720"/>
            <a:ext cx="1447920" cy="761760"/>
          </a:xfrm>
          <a:prstGeom prst="cloudCallout">
            <a:avLst>
              <a:gd name="adj1" fmla="val -42106"/>
              <a:gd name="adj2" fmla="val 10104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648320" y="4800600"/>
            <a:ext cx="5331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05720" y="4800600"/>
            <a:ext cx="5331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60B87-14D3-4022-AC9A-E7BA428D0E1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A17C17-4396-417F-80E3-062701E339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 Time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ach phase, the number of active processes is decreased by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lo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ha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fir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ases complete in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pperbound on time to process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pperbound on output queue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the time cost i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301B2-6127-4350-84C2-B939A53388B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28AE5F-CAD3-4D28-B06F-9393F1076B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terson Algorithm Message 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t m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each phase, each process sends at most two messages (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cost =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log 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F9C1C-B0EF-4F25-AE31-3C73DB98F4A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0E2843-FA8C-42E5-80ED-687B7A8CC3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ion Lower B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unication lower bound of asynchronous comparison-based algorithms is 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ous rings is a restriction on asynchronous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Lynch section 15.1.4 for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849D8-E130-4F8F-A091-33CC0DA848B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F3D5D1-747B-43EB-B319-D627BB48E7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4: Asynchronous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irectional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connected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cal processes except 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51680" y="19051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118360" y="3124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756400" y="25909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23080" y="3657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042400" y="19810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5985000" y="2133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7203960" y="33523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37280" y="29718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213600" y="228600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088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7128000" y="236232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34696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32360" y="34290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598500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6289560" y="37335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7432200" y="22860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86640" y="25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08840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093520" y="197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153640" y="3108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74200" y="367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869440" y="3424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AD285-2AA9-45ED-AC60-B78964367CA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0561DA-0D62-4832-8916-86BE00108F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chronous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rocessing done in lock-step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un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om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-passing is done between 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03BB4-106F-472F-84E9-0DE27CA0FE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FFFEDE-BA0A-4ACB-B393-067C1AEB59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FloodM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re are no rounds, FloodMax cannot be trivially extended to asynch.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ar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 round number to each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ode collects all incoming round messages before process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CBAE7-D505-410D-B59D-F1074E85C96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CBE8A6-C2B2-4BE2-B8DB-E86225CC8B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other  general asynch. network protocols that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ning Tree, Convergecast, and Broad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ers to simulate synchronou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snapshots for terminat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E13D8-EF5E-46CC-BAD0-9E2B2B1BD21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5657AE-337D-4916-B290-8FBA460D81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leader election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protocols exist for ring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 for asynchronous networks are more com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29808-A4BD-479B-909F-F7C488EF4D2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18BE04-47C7-491E-9A7C-5398DDA03E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: Synchronous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sses connected in a 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es can distinguish clockwise from counterclockwise neighb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16002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22096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32767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32767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22096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828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952520" y="26668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88584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352680" y="2666880"/>
            <a:ext cx="15264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505320" y="19051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54680" y="161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69160" y="22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65720" y="3281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62720" y="3281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51440" y="2228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F770D-A6F2-48A5-8E33-1E5C05557D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2B0DC5-D4B4-4C27-9E62-BF9F4DD338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 on the 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leaders may have to declare themselves as s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ng may be unidirectional or bidirec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ode may or may not kn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size of the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6264A-B974-4C80-A1A7-6C294C3927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446B22-3965-4025-984C-AFE15E6420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by Le Lann, Cha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Roberts  (197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nidirectional r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leader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rocess passes its UID around th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reception, compare to own 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arger: Pass to nex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maller: Dis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qual: Declare self a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53360" y="8161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44080" y="1425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62840" y="24922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43880" y="24922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38960" y="1425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10560" y="10447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67400" y="18828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200720" y="2720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667200" y="188244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819840" y="11203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69560" y="82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4040" y="144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80600" y="249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77600" y="249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66320" y="144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FD22D-3D31-411C-8FBE-A379673B39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2329BE-F47A-44E5-A607-A7C41422C1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R Algorithm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number of 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unds, the n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way from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be send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 = n, UI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have traveled around th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33920" y="1587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24640" y="21970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43400" y="326376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24440" y="32637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19520" y="21970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91120" y="1816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547960" y="265428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481280" y="3492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3947760" y="26539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00400" y="1891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5012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64600" y="221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1160" y="32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58160" y="32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46880" y="2216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1676520"/>
            <a:ext cx="660240" cy="1523880"/>
          </a:xfrm>
          <a:custGeom>
            <a:avLst/>
            <a:gdLst/>
            <a:ahLst/>
            <a:rect l="l" t="t" r="r" b="b"/>
            <a:pathLst>
              <a:path w="416" h="960">
                <a:moveTo>
                  <a:pt x="0" y="0"/>
                </a:moveTo>
                <a:cubicBezTo>
                  <a:pt x="176" y="112"/>
                  <a:pt x="352" y="224"/>
                  <a:pt x="384" y="384"/>
                </a:cubicBezTo>
                <a:cubicBezTo>
                  <a:pt x="416" y="544"/>
                  <a:pt x="304" y="752"/>
                  <a:pt x="192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78560" y="2133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35520" y="3352680"/>
            <a:ext cx="82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34290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41859-6F27-4F67-BE36-069FBBAD3B1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0B6BBE-00CE-4BA1-A403-CCBEEEDE5C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ting L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R algorithm never ha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leaders continuously listen for incoming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leader pass a report message around the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general way to transform a non-halting algorithm into a halting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on Co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itional r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itio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CD2C8-4A24-4A2B-B1A2-A9B6694E9B1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759CEF-4FF3-408D-B4C1-47AF2D047C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3:25:07Z</dcterms:created>
  <dc:creator>liang</dc:creator>
  <dc:description/>
  <dc:language>en-US</dc:language>
  <cp:lastModifiedBy>ochipara</cp:lastModifiedBy>
  <dcterms:modified xsi:type="dcterms:W3CDTF">2003-09-05T14:06:09Z</dcterms:modified>
  <cp:revision>145</cp:revision>
  <dc:subject/>
  <dc:title>Leader Election</dc:title>
</cp:coreProperties>
</file>